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8FF-9BDF-4213-BBD5-A92AD02E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E37-EA76-4540-B678-1A8BD35F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0CC-E810-4EA9-BF3C-331BC770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6D7-AF9A-473B-B010-D0E00432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B6B7-44F0-4DF0-8651-50F7EF54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7A02-C361-416C-BB74-C873FFBE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1313-CDB6-4F11-BEB5-CEB9D90C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8356-C554-4880-BFA5-2C9D757D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7D45-16A9-4E61-8FD1-614F1D80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079C-1C2C-4EBF-B79E-507C84B0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EE7D-6C9F-47EC-987E-D7328A3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D26-5AF5-4D9D-B1FA-37FC39EB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C77-751F-4A0D-A2FD-362F67B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802B-FCBC-4081-A0F5-364F8265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0D29-4ED9-4C4B-8D2D-D7C8A5C9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1822-7CC6-4AEC-B2AD-B66EB6CD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5898-EF20-4014-9985-5F9B17D5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AA9-E188-4A3D-9074-E1DD877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510-9A9F-4A60-AF1F-CCE9064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661-19C1-4169-BC8A-D0002D2B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94E-ACE3-49F5-80EE-35B2AED8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FD8-3E49-4D58-9F6A-50685545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FBA-CF4F-45C2-A9C1-BAC5BD8E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5C9-8C6A-4B7E-9141-8D63329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C47-4C4A-44C3-A773-2A9E03335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4B9B-47BE-4B0B-A108-179956CC7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oscience.org/atlases/cdrom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l Cycle and Mito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ontrolled Cel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does a cell become cancerou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o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utation in DNA causes the cell to continue divi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mor-Supressor 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gene normally tells the cell to stop divi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ancer cells this gene has been changed, or mut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tumors, but ineffective if the cancer has spre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mitosis, so cancer cells are especially vulne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coupled with temporary bone marrow transpla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ective if the cancer has spread, because the entire body cannot be irradia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eatments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es on a wide variety of drugs to find cancer cells and destroy them, or to prevent the formation of supporting tissue (e.g. new blood vessel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ortunately, these drugs also kill healthy cells (hair follicles and intestinal lining), producing the well-known side effects of hair loss and naus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thought impossible due to diverse nature of cancer, but now there is some hope through of  the action of new antibod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ghting Cancer: Befo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ully intact cancer cell surrounded by the immune system’s killer t-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the tentacles of the cancer ce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cancertc.jpg (20165 bytes)"/>
          <p:cNvPicPr/>
          <p:nvPr/>
        </p:nvPicPr>
        <p:blipFill>
          <a:blip r:embed="rId1"/>
          <a:stretch/>
        </p:blipFill>
        <p:spPr>
          <a:xfrm>
            <a:off x="4038480" y="1447920"/>
            <a:ext cx="4402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ghting Cancer: Af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how the cancer is completely flattened and totally destroy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-cell pokes holes in the cell membrane of the cancer cell, allowing fluid and salts enter so that the target cell eventually burs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310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controlled Cell 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sp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ly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gnant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s to other cells and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to remove because it invades so may othe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nign 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ly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ign tum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wart 2.jpg (128916 bytes)"/>
          <p:cNvPicPr/>
          <p:nvPr/>
        </p:nvPicPr>
        <p:blipFill>
          <a:blip r:embed="rId1"/>
          <a:stretch/>
        </p:blipFill>
        <p:spPr>
          <a:xfrm>
            <a:off x="4114800" y="1219320"/>
            <a:ext cx="3490920" cy="3617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wart 2.jpg (128916 bytes)"/>
          <p:cNvPicPr/>
          <p:nvPr/>
        </p:nvPicPr>
        <p:blipFill>
          <a:blip r:embed="rId2"/>
          <a:stretch/>
        </p:blipFill>
        <p:spPr>
          <a:xfrm>
            <a:off x="2438280" y="3505320"/>
            <a:ext cx="2440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 as uncontrolled cell division coupled with the capacity to spread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sta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to other locations in the bo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cer cells actually build new blood vessels to send blood to the center of a tum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icular 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32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d and white areas are cancer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48765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st 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magn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363760"/>
            <a:ext cx="5867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962160" cy="3097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5715000" cy="2857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419720" y="457200"/>
            <a:ext cx="4419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ung 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010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y vs. Cancer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567160" cy="3772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2276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ncer cells are characterized by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ontact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continue to grow and divide even after contacting oth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"anchorage" dependen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need to be attached to an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quirement for external growth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ells rely on hormones to tell them when and how to g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different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stay immature instead of changing into skin cells, heart cells, lung cell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23:53:51Z</dcterms:created>
  <dc:creator>System Operations</dc:creator>
  <dc:description/>
  <dc:language>en-US</dc:language>
  <cp:lastModifiedBy>Tera Linn</cp:lastModifiedBy>
  <dcterms:modified xsi:type="dcterms:W3CDTF">2011-03-23T14:25:19Z</dcterms:modified>
  <cp:revision>7</cp:revision>
  <dc:subject/>
  <dc:title>Cell Cycle and Mitosis</dc:title>
</cp:coreProperties>
</file>